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6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C1F-00C0-4C10-891D-F30BE359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224-8EA7-41AC-9B1C-5853F25D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2C9-480F-4625-B2B3-7A8AC9B0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072-6618-4FB4-A54A-D6057664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BD26-F845-4FDA-B6CD-0E63AA19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ECD3-66AA-4F37-8BD8-3C8BDA36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949A-1F41-4627-8D1F-AFB8FB10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E36E-FB7F-4F59-9491-8AD56ED3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A8DD-592F-481B-AEA9-F091FCAC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23E4-CB45-4A8E-85FB-15305E99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1BEA-3ABF-4EA1-90DC-9317E67F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6BB1-6382-4018-B5D6-15AF2DBC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B087-FFD8-4A56-99BA-9B6806EB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0471-E6F5-4AD5-8A0F-D1596794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2AF3-D9F2-4251-8F1E-6AFBFBE7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1E53-345F-41F8-9C1A-1B6E1CA3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CE41-FBA8-4B56-A8E2-A6AAEE9F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95855-71A5-4176-8691-B5DB7B1A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62DF0-F448-4FB2-9225-27DC533F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98192-DE3A-4D5D-A004-7D7A4BA8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DF660-6EBD-4F91-A99D-D8DD9A0F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D2E6F-5D5B-47F1-9C23-399B1133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25E-896F-4548-ABB2-AC7E15AC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0D0B3-6C7D-4AE7-870D-79845F6A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E0CBE-5A52-4E1F-AD02-8B2BAE29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BE648-749F-497D-9905-2BE7F2C5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77833-3928-4F01-897B-A7F578B4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0A026-E944-4223-AA49-084DA6EE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9731C-8CC3-4C49-9E09-8AE817A0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7735F-7F8E-40DD-96D5-EF607B34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3EBF9-F17B-41AF-B89E-1E6A952E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9856A-4D43-453A-AD19-F8A88238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88196-F408-4D9F-B8D7-CBFC3F5B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70A-BF70-4DB1-AA53-3A0FB30B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23FB8-C69B-4F7D-8E56-63416D00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88378-2B7E-4474-A239-5EEBBAC6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63051-8E40-47C0-B796-E47D70AA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A8690-D4D3-4783-83E9-C75C20C3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0D5A8-DBDC-49AB-8E3B-208C0850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ADB05-F74B-4E44-AF5A-941A54B5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7F3A8-9B5F-42DD-B97A-13E511F5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E9069-D542-4347-AAE8-D0716A80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9F7FA-43FC-48D8-A949-1247718A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02274-A02C-4317-A2CC-667AC4B4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18B5-A952-4F13-853F-F398C956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3C2C1-BF54-45D1-A737-5191B3AE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DDFD2-9256-4BF9-BB56-159762A1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A456F-F4AA-4A54-91F1-DD3E89E0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7D770-30A3-4064-94E5-32B3E644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E92DB-0D2F-49F8-9D04-24449FD0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5EF34-EE2D-4B9B-8E2F-95328372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E3BAC-FC9B-4FCA-ADA3-AFB35966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1D65F-01FE-44E7-BEB6-9336D030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D0FE6-F44D-4535-86B0-D56E9958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05D3E-6860-41F5-9A32-4D372D80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3CF-F2FD-4712-BD22-A950BF8F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EC7CB-1311-4834-A61F-AEEA402E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A1F75-6079-4A9F-86EB-8788BAC7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6B968-581A-4D3A-A719-56195410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5434D-C229-4FE9-A85B-B57EB168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5B93E-DC81-4A52-A630-AB993F66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1E9AA-1904-42D5-9CBF-3CF9B45A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3DE2E-E1D1-4394-820F-0D885FD5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A5512-A3EF-4CA1-8A1F-19702A65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9377F-36F3-4F27-BF1E-19B37436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CBEF3-37B0-4147-9D46-7D137D00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62C-DCA5-4C4E-999E-591FA7A8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941BF-A948-4A99-A6E0-9302E30B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EDA71-B99A-4E19-82EB-C0F19A37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6B994-2816-4ADF-8322-2EA3B38D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35077-7A9B-4E7F-9939-4C4C9FDC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9D156-3BAC-4AD2-A6B0-1547BC9D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082C9-7718-4D79-A7D4-46F1D2ED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769A6-0B95-42E6-B690-B0CC00EA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508BF-5EAD-4532-A4C8-86CDDDE2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2C436-67C2-492F-A660-B0E4BCAA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C56E9-08E0-486D-9897-6C704673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2DF-80F6-4193-8939-A2A2921E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011B9-EDF4-45A8-9EEB-4D5DE9F7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3D311-A89F-4BDD-BAD6-1ADD8793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674F4-9E76-4659-AC2A-BCC72E33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829C0-96C4-4AAC-88A9-B5207B30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34E35-C394-4FD0-9FD7-23A2B133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239-B0F5-464A-8ED4-D1A88146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919B-AE61-4278-946B-99A8546A495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6BAF-E96F-49F0-A40F-FFD811BF6C2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F8F9-18FF-4704-BE87-6E6B674EDF0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F29A-7A3F-4F02-BBAC-9DE38AEEB90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B0DD-4C1A-47BA-9466-37D6C7D8E0E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45B6-1F6D-4AAB-B5F4-175BF18AB33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ADDB-7951-4D71-8466-5FC899AF0D2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560" y="5943600"/>
            <a:ext cx="7407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88631"/>
                </a:solidFill>
                <a:latin typeface="Antique Olive CompactPS"/>
              </a:rPr>
              <a:t>Welcome to the Futur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Our Future.wmv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7467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itle 1"/>
          <p:cNvSpPr/>
          <p:nvPr/>
        </p:nvSpPr>
        <p:spPr>
          <a:xfrm>
            <a:off x="990720" y="304920"/>
            <a:ext cx="794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9933ff"/>
                </a:solidFill>
                <a:latin typeface="Antique Olive CompactPS"/>
              </a:rPr>
              <a:t>How often should LT’s be changed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itle 1"/>
          <p:cNvSpPr/>
          <p:nvPr/>
        </p:nvSpPr>
        <p:spPr>
          <a:xfrm>
            <a:off x="990720" y="2133720"/>
            <a:ext cx="794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33ff"/>
                </a:solidFill>
                <a:latin typeface="Antique Olive CompactPS"/>
              </a:rPr>
              <a:t>How should LT’s be writte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4"/>
          <p:cNvSpPr/>
          <p:nvPr/>
        </p:nvSpPr>
        <p:spPr>
          <a:xfrm>
            <a:off x="1371600" y="1447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Gill Sans MT"/>
              </a:rPr>
              <a:t>The Majority… EVERYDAY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5"/>
          <p:cNvSpPr/>
          <p:nvPr/>
        </p:nvSpPr>
        <p:spPr>
          <a:xfrm>
            <a:off x="1371600" y="32004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Gill Sans MT"/>
              </a:rPr>
              <a:t>In Student Friendly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itle 1"/>
          <p:cNvSpPr/>
          <p:nvPr/>
        </p:nvSpPr>
        <p:spPr>
          <a:xfrm>
            <a:off x="990720" y="4114800"/>
            <a:ext cx="7943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33ff"/>
                </a:solidFill>
                <a:latin typeface="Antique Olive CompactPS"/>
              </a:rPr>
              <a:t>All LT’s should be shared with students, referred to during the lesson, and focused on the learning that is to take place.. not the activity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C:\Documents and Settings\mmiddleton\Local Settings\Temporary Internet Files\Content.IE5\49EFCD2J\MC900151699[1].wmf"/>
          <p:cNvPicPr/>
          <p:nvPr/>
        </p:nvPicPr>
        <p:blipFill>
          <a:blip r:embed="rId1"/>
          <a:stretch/>
        </p:blipFill>
        <p:spPr>
          <a:xfrm>
            <a:off x="0" y="2895480"/>
            <a:ext cx="1063800" cy="9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50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7c80"/>
                </a:solidFill>
                <a:latin typeface="Antique Olive CompactPS"/>
              </a:rPr>
              <a:t>Stiggins classifies LT’s into 4 Typ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3399ff"/>
                </a:solidFill>
                <a:uFillTx/>
                <a:latin typeface="Gill Sans MT"/>
              </a:rPr>
              <a:t>Knowledge:</a:t>
            </a:r>
            <a:r>
              <a:rPr b="0" lang="en-US" sz="3000" spc="-1" strike="noStrike">
                <a:solidFill>
                  <a:srgbClr val="3399ff"/>
                </a:solidFill>
                <a:latin typeface="Gill Sans MT"/>
              </a:rPr>
              <a:t>  Knowledge/facts/concepts to be learned outright; some retrieved using reference material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33cc33"/>
                </a:solidFill>
                <a:uFillTx/>
                <a:latin typeface="Gill Sans MT"/>
              </a:rPr>
              <a:t>Reasoning:</a:t>
            </a:r>
            <a:r>
              <a:rPr b="0" lang="en-US" sz="3000" spc="-1" strike="noStrike">
                <a:solidFill>
                  <a:srgbClr val="33cc33"/>
                </a:solidFill>
                <a:latin typeface="Gill Sans MT"/>
              </a:rPr>
              <a:t> Using knowledge to solve a problem, make a decision, plan, etc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9933ff"/>
                </a:solidFill>
                <a:uFillTx/>
                <a:latin typeface="Gill Sans MT"/>
              </a:rPr>
              <a:t>Skills: </a:t>
            </a:r>
            <a:r>
              <a:rPr b="1" lang="en-US" sz="3000" spc="-1" strike="noStrike">
                <a:solidFill>
                  <a:srgbClr val="9933ff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9933ff"/>
                </a:solidFill>
                <a:latin typeface="Gill Sans MT"/>
              </a:rPr>
              <a:t>Demonstrations where the doing is what is important.  Using knowledge and reasoning to perform skillfully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66ff"/>
                </a:solidFill>
                <a:uFillTx/>
                <a:latin typeface="Gill Sans MT"/>
              </a:rPr>
              <a:t>Products:</a:t>
            </a:r>
            <a:r>
              <a:rPr b="0" lang="en-US" sz="3000" spc="-1" strike="noStrike">
                <a:solidFill>
                  <a:srgbClr val="ff66ff"/>
                </a:solidFill>
                <a:latin typeface="Gill Sans MT"/>
              </a:rPr>
              <a:t> Using knowledge, reasoning and skill to produce a final product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2" descr="C:\Documents and Settings\mmiddleton\My Documents\My Pictures\Microsoft Clip Organizer\00389758.wmf"/>
          <p:cNvPicPr/>
          <p:nvPr/>
        </p:nvPicPr>
        <p:blipFill>
          <a:blip r:embed="rId1"/>
          <a:stretch/>
        </p:blipFill>
        <p:spPr>
          <a:xfrm>
            <a:off x="228600" y="457200"/>
            <a:ext cx="129384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99ff"/>
                </a:solidFill>
                <a:latin typeface="Antique Olive CompactPS"/>
              </a:rPr>
              <a:t>Let’s Practice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371240" y="1447560"/>
            <a:ext cx="74977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ork with your table to identify each target as knowledge (K), reasoning (R), skill (S) or product (P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Picture 2" descr="C:\Documents and Settings\mmiddleton\Local Settings\Temporary Internet Files\Content.IE5\8RHFE2BX\MC900198007[1].wmf"/>
          <p:cNvPicPr/>
          <p:nvPr/>
        </p:nvPicPr>
        <p:blipFill>
          <a:blip r:embed="rId1"/>
          <a:stretch/>
        </p:blipFill>
        <p:spPr>
          <a:xfrm>
            <a:off x="2743200" y="3657600"/>
            <a:ext cx="396252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3300"/>
                </a:solidFill>
                <a:latin typeface="Antique Olive CompactPS"/>
              </a:rPr>
              <a:t>Connecting the Dots between LT’s and FA’s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294920" y="16761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ique Olive CompactPS"/>
              </a:rPr>
              <a:t>A lesson is not a true lesson without a target, activities to reach the target, and a way to check if students understand the target.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2" descr="C:\Documents and Settings\mmiddleton\Local Settings\Temporary Internet Files\Content.IE5\VIKRNDSX\MC900441748[1].png"/>
          <p:cNvPicPr/>
          <p:nvPr/>
        </p:nvPicPr>
        <p:blipFill>
          <a:blip r:embed="rId1"/>
          <a:stretch/>
        </p:blipFill>
        <p:spPr>
          <a:xfrm>
            <a:off x="3505320" y="46483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933ff"/>
                </a:solidFill>
                <a:latin typeface="Antique Olive CompactPS"/>
              </a:rPr>
              <a:t>Homework Follow U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read the article, “Putting Testing in Perspective.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ok at the worksheet titled, Assessment Literacy.  Individually, look at each statement and mark whether you agree or disagre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am up with a partner and discuss your answers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re did you find the evidence           for or agains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Picture 2" descr="C:\Documents and Settings\mmiddleton\Local Settings\Temporary Internet Files\Content.IE5\EWT3BYDV\MC900292084[1].wmf"/>
          <p:cNvPicPr/>
          <p:nvPr/>
        </p:nvPicPr>
        <p:blipFill>
          <a:blip r:embed="rId1"/>
          <a:stretch/>
        </p:blipFill>
        <p:spPr>
          <a:xfrm>
            <a:off x="7345440" y="4800600"/>
            <a:ext cx="17985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f3b1d"/>
                </a:solidFill>
                <a:latin typeface="Antique Olive CompactPS"/>
              </a:rPr>
              <a:t>3-Minute Pau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294920" y="17521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vides students a chance to reflect on the concepts and ideas that have just been introduced, make connections to prior knowledge or experience, and seek clarific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lease take a moment to fill out the sheet provided.  You do not have to place your name on the pap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2" descr="C:\Documents and Settings\mmiddleton\Local Settings\Temporary Internet Files\Content.IE5\45EBWPQJ\MC900157339[1].wmf"/>
          <p:cNvPicPr/>
          <p:nvPr/>
        </p:nvPicPr>
        <p:blipFill>
          <a:blip r:embed="rId1"/>
          <a:stretch/>
        </p:blipFill>
        <p:spPr>
          <a:xfrm>
            <a:off x="7010280" y="0"/>
            <a:ext cx="18162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b050"/>
                </a:solidFill>
                <a:latin typeface="Antique Olive CompactPS"/>
              </a:rPr>
              <a:t>Next Session..December 6</a:t>
            </a:r>
            <a:r>
              <a:rPr b="0" lang="en-US" sz="4300" spc="-1" strike="noStrike" baseline="30000">
                <a:solidFill>
                  <a:srgbClr val="00b050"/>
                </a:solidFill>
                <a:latin typeface="Antique Olive CompactPS"/>
              </a:rPr>
              <a:t>t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90360" y="15998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tique Olive"/>
              </a:rPr>
              <a:t>7 Strategies….Read pages 42-5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tique Olive"/>
              </a:rPr>
              <a:t>Self Assess yourself on Section 2 of CHETL.  Place a star by the characteristics you currently do well and a triangle where you need to be more intentional about the us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tique Olive"/>
              </a:rPr>
              <a:t>In a class or particular content area, use Learning Targets along with Formative Assessments.  Be ready to discuss at the next meeting.  Bring Examples too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" name="Picture 2" descr="C:\Documents and Settings\mmiddleton\Local Settings\Temporary Internet Files\Content.IE5\PJ3F998E\MC900326288[1].wmf"/>
          <p:cNvPicPr/>
          <p:nvPr/>
        </p:nvPicPr>
        <p:blipFill>
          <a:blip r:embed="rId1"/>
          <a:stretch/>
        </p:blipFill>
        <p:spPr>
          <a:xfrm>
            <a:off x="7318440" y="838080"/>
            <a:ext cx="18255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ntique Olive CompactPS"/>
              </a:rPr>
              <a:t>WHY ARE YOU HERE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1" name="Tips for Removing Snow off your Vehicle.wmv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7816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372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Because we are going to be unlike the man </a:t>
            </a:r>
            <a:br>
              <a:rPr sz="2800"/>
            </a:b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in the video.  We are going to….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14040" y="12949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alyze the direction of education in Kentuck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ork together to meet the criter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the appropriate too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495680" y="1676520"/>
            <a:ext cx="5410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URRICLUM (WH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K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NSTRUCTION (H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HE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ASSESSMENT (HOW W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A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Content Placeholder 2"/>
          <p:cNvSpPr/>
          <p:nvPr/>
        </p:nvSpPr>
        <p:spPr>
          <a:xfrm>
            <a:off x="1447920" y="533412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ff"/>
                </a:solidFill>
                <a:latin typeface="Gill Sans MT"/>
              </a:rPr>
              <a:t>Be</a:t>
            </a:r>
            <a:r>
              <a:rPr b="0" lang="en-US" sz="5400" spc="-1" strike="noStrike">
                <a:solidFill>
                  <a:srgbClr val="ff66ff"/>
                </a:solidFill>
                <a:latin typeface="Gill Sans MT"/>
              </a:rPr>
              <a:t> </a:t>
            </a:r>
            <a:r>
              <a:rPr b="0" lang="en-US" sz="7200" spc="-1" strike="noStrike">
                <a:solidFill>
                  <a:srgbClr val="ff66ff"/>
                </a:solidFill>
                <a:latin typeface="Gill Sans MT"/>
              </a:rPr>
              <a:t>Successful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0000"/>
                </a:solidFill>
                <a:latin typeface="Antique Olive CompactPS"/>
              </a:rPr>
              <a:t>A Message from Our Superintendent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7" name="Content Placeholder 3" descr="SSkinner.jpg"/>
          <p:cNvPicPr/>
          <p:nvPr/>
        </p:nvPicPr>
        <p:blipFill>
          <a:blip r:embed="rId1"/>
          <a:stretch/>
        </p:blipFill>
        <p:spPr>
          <a:xfrm>
            <a:off x="7429680" y="85680"/>
            <a:ext cx="1504800" cy="20574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1295280" y="1752480"/>
            <a:ext cx="73152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Mind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tter off at your table as A, B, A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's will read "The Ideal Learning Cul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's will read "The Perils and Promises of Prais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finished reading, A and B match up and share your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1905120" y="5029200"/>
            <a:ext cx="6019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Identify each statement as fixed or growth mind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b050"/>
                </a:solidFill>
                <a:latin typeface="Gill Sans MT"/>
              </a:rPr>
              <a:t>Changing Teacher Practice Requires a Change in Teachers’ Belief System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8960" y="17521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Gill Sans MT"/>
              </a:rPr>
              <a:t>Teachers must shift from a fixed mindset to a growth mindse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3b1d"/>
                </a:solidFill>
                <a:latin typeface="Gill Sans MT"/>
              </a:rPr>
              <a:t>Teachers must shift from extrinsic (carrot stick) to intrinsic (autonomy, mastery, purpose) motiva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ff"/>
                </a:solidFill>
                <a:latin typeface="Gill Sans MT"/>
              </a:rPr>
              <a:t>Teachers must be given the time/tools and support from all stakeholder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f3b1d"/>
                </a:solidFill>
                <a:latin typeface="Antique Olive CompactPS"/>
              </a:rPr>
              <a:t>Wrap Aroun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294920" y="9903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n index card to write down 3 things that are formative assessmen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veryone stand up, we will go around the room and each person will share one item off their car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you hear something you have written down, check it off your list.  When all three items on your list have been stated, sit dow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2" descr="C:\Documents and Settings\mmiddleton\Local Settings\Temporary Internet Files\Content.IE5\VIKRNDSX\MC900389204[1].wmf"/>
          <p:cNvPicPr/>
          <p:nvPr/>
        </p:nvPicPr>
        <p:blipFill>
          <a:blip r:embed="rId1"/>
          <a:stretch/>
        </p:blipFill>
        <p:spPr>
          <a:xfrm>
            <a:off x="7010280" y="5257800"/>
            <a:ext cx="10670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ntique Olive CompactPS"/>
              </a:rPr>
              <a:t>Think-Pair-Sha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the one thing that must be consistent with every formative assessment to make it a true formative assessmen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Content Placeholder 2"/>
          <p:cNvSpPr/>
          <p:nvPr/>
        </p:nvSpPr>
        <p:spPr>
          <a:xfrm>
            <a:off x="1219320" y="3505320"/>
            <a:ext cx="7497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Gill Sans MT"/>
              </a:rPr>
              <a:t>The teacher mu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Gill Sans MT"/>
              </a:rPr>
              <a:t>DO SOMETHING with the information receive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3300"/>
                </a:solidFill>
                <a:latin typeface="Antique Olive CompactPS"/>
              </a:rPr>
              <a:t>Why Learning Target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TextBox 3"/>
          <p:cNvSpPr/>
          <p:nvPr/>
        </p:nvSpPr>
        <p:spPr>
          <a:xfrm>
            <a:off x="1600200" y="1447920"/>
            <a:ext cx="64008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Research indicates students who know and can articulate what they are learning out perform those who don’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C:\Documents and Settings\mmiddleton\Local Settings\Temporary Internet Files\Content.IE5\X5GQZNL9\MC900383550[1].wmf"/>
          <p:cNvPicPr/>
          <p:nvPr/>
        </p:nvPicPr>
        <p:blipFill>
          <a:blip r:embed="rId1"/>
          <a:stretch/>
        </p:blipFill>
        <p:spPr>
          <a:xfrm>
            <a:off x="0" y="2743200"/>
            <a:ext cx="990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9933ff"/>
                </a:solidFill>
                <a:latin typeface="Antique Olive CompactPS"/>
              </a:rPr>
              <a:t>What are </a:t>
            </a:r>
            <a:br>
              <a:rPr sz="3900"/>
            </a:br>
            <a:r>
              <a:rPr b="0" lang="en-US" sz="3900" spc="-1" strike="noStrike">
                <a:solidFill>
                  <a:srgbClr val="9933ff"/>
                </a:solidFill>
                <a:latin typeface="Antique Olive CompactPS"/>
              </a:rPr>
              <a:t>Learning Targe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1371600" y="167652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Gill Sans MT"/>
              </a:rPr>
              <a:t>Clearly defined, manageable, measurable teaching chunks of what we want our students to 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C:\Documents and Settings\mmiddleton\Local Settings\Temporary Internet Files\Content.IE5\UPLEBA1K\MC900030041[1].wmf"/>
          <p:cNvPicPr/>
          <p:nvPr/>
        </p:nvPicPr>
        <p:blipFill>
          <a:blip r:embed="rId1"/>
          <a:stretch/>
        </p:blipFill>
        <p:spPr>
          <a:xfrm>
            <a:off x="152280" y="2514600"/>
            <a:ext cx="1212840" cy="1579680"/>
          </a:xfrm>
          <a:prstGeom prst="rect">
            <a:avLst/>
          </a:prstGeom>
          <a:ln w="0">
            <a:noFill/>
          </a:ln>
        </p:spPr>
      </p:pic>
      <p:sp>
        <p:nvSpPr>
          <p:cNvPr id="344" name="Title 1"/>
          <p:cNvSpPr/>
          <p:nvPr/>
        </p:nvSpPr>
        <p:spPr>
          <a:xfrm>
            <a:off x="990720" y="4572000"/>
            <a:ext cx="794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33ff"/>
                </a:solidFill>
                <a:latin typeface="Antique Olive CompactPS"/>
              </a:rPr>
              <a:t>When Should LT’s be poste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"/>
          <p:cNvSpPr/>
          <p:nvPr/>
        </p:nvSpPr>
        <p:spPr>
          <a:xfrm>
            <a:off x="1447920" y="5715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Gill Sans MT"/>
              </a:rPr>
              <a:t>EVERY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7:52:00Z</dcterms:created>
  <dc:creator>mmiddleton</dc:creator>
  <dc:description/>
  <dc:language>en-US</dc:language>
  <cp:lastModifiedBy>teacher</cp:lastModifiedBy>
  <dcterms:modified xsi:type="dcterms:W3CDTF">2010-11-01T20:42:45Z</dcterms:modified>
  <cp:revision>74</cp:revision>
  <dc:subject/>
  <dc:title>Slide 1</dc:title>
</cp:coreProperties>
</file>